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045-222D-495A-BE8D-D39359B6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7C9-ACFF-4FBB-8500-E869B0F3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DA3-0DCE-4276-A1B9-DCF15186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37B-BD5F-49B1-B9ED-358C3A20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E02E-8D51-4EE9-ACD7-2D3A328C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9183-56E5-465D-9A63-2262F90F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0763-31C1-46E5-9FC7-5B780AB3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8A37-012B-416D-8A6B-6E1FB342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9A02-2CBD-414B-8E57-08C92D8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6EDD-59A1-4374-BA4B-56891BFC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77AC-8C1C-4EFE-9313-3E679A6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E4F-2872-4C4F-863E-D6A5B2F5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5313-F89D-4B3E-AF81-751072CB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6F06-8856-4BD2-A91E-FA4AD347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6DDC-482C-4EB2-A767-6B4D2B47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D4D9-4339-4E28-ADE3-2D6D184A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A0E4-9D89-491F-9E08-F140C6C2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D373-FC13-46E7-9493-C49DCEEA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BB7C-6498-4452-838A-DCFA4178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BF0D-A948-410C-BC24-733F4422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2456-2169-401A-B7FF-2FF331D0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812A-05E2-4317-8A06-6CB3B9E8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469-5A81-48AF-8FC3-A9F469BC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07D5-42DF-4A77-ACE4-4807E483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4775-981F-4B6A-A364-1C628930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A1A1-211C-4509-A7E9-54D9A553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B5A1-F721-4E42-AD26-D959382F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BD06-B1C5-4AAC-A6EC-B4A60811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4740-5BDF-4C28-8FFA-A746A170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7A57-0F1C-45F5-A8EA-41BB8E38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82AFE-97E1-47B6-855D-463FF5EC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62601-31FA-4541-81AE-AB1060E8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E5E8A-769B-4645-BCB9-84F74B3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037-9559-4110-9F09-097D97EE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1D53F-904E-499E-9C90-05B82069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0004AC-22E4-4BDA-9935-0A3A8BEB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2E42D-25AB-45DF-8C8D-33B00692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72D7B-1396-4711-8009-8AE47A3E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93797-3592-4DAE-BE5B-CAC1D807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B2102-5E8C-42B3-A88C-70AC901C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DD0AF-C081-4CAB-83B8-FD3884D4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46690-CC49-4773-99B9-279B879D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F2646-B5E8-467E-85F5-B755AE09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6C04A-757F-43FF-B2F3-85F4ADAD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8C3-7E7E-4540-89C1-9CACE74D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FFBA1-DF92-4FDF-8E0B-7F7D286B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FEF84-25A3-457A-8526-5CCA3FEF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A1632-D224-4160-8654-FB8604F7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36295-563B-4A6F-A0B3-6B23428A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00C7E-F6AD-4039-A250-CDE43226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1E966-6DCC-48DE-84A6-72DF965A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EF670-61AA-4D6C-966E-D34966BD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A1A6D-CB90-4D08-9F5F-7DC0D22E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FAF75-EDF7-401A-BEC2-F3A279C3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0269A-6B4B-41EF-8B3E-897324A6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30A-DDA2-455B-BCC5-56381088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0658C-33EB-4759-93CC-03B1E441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0C6D-62F0-42C7-9804-1E8D1CBE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F58F9-9341-49C5-9C42-C1EF305C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B6EE-7AFA-4A68-9765-D7E744BA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E477A-ED18-423A-9DD7-522EC6A1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CB97F-45FE-4DC8-BBEB-20C564F5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A6A2-8D0B-4CA7-A226-597726C9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FD32-8D2E-4F8E-ADCB-3E81085D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FBED9-7F6B-4623-A238-B5BE2833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CEF91-D819-469D-9523-A62E7F4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D28-958B-4085-B7D9-BACD4652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E31D9-2087-4F7B-87B6-4392F2EE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CB70-F407-4DB1-A190-0194E9D8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E6CC6-F07A-48C3-B787-24416D01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CB277-D61E-47B5-818F-3FBBE382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80FFC-E124-4D46-BAF1-95A474D7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75F4D-D354-4197-AFEB-2AA2C915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55D1A-355A-4959-8BEE-E1AFF73A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273D-20E7-4A7E-94BF-127C089C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E0A57-00B5-4C29-8E03-DF911BF9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EB8F1-4B0E-4A68-828F-2BDE7A8F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7B6-3B0F-4482-AAC8-924690C1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DCE0-97F1-443D-8145-9C0A3035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F5FCE-81EC-4E8C-900A-70A9FCDE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6418C-86B6-4236-9247-3B531428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B6B88-F936-46E3-AC89-1410448D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3B235-9AC8-4E05-9FB9-C80189E5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67C1A-6C8C-4A01-AA65-C5E7548F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99417-2D12-4668-8491-67518A3F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765CC-C354-45FA-A5FF-79D40AA6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61E4E-1053-448F-AAB5-9B0DD035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E76FC-61BE-4E3F-983A-8A2B34B3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1EE-F516-408D-9EB9-C03AC15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FFD80-6081-4E65-90E5-56232EDE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F2988-2FFA-4DCA-8A76-626E450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32CE7-90B2-47F7-A7F7-834487C0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53F1A-7279-47CA-BDA1-64586844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9D998-7C43-4D8E-B527-65753048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FD04B-0732-4F8C-84EE-7A0BA0E4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5026A-FF57-42B3-AD94-81482DEF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EAC0-DD56-48B4-8C30-EDB2704A0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9177-876B-47A1-A715-4731B9443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B5FA-74C5-438A-9FB7-708F8B61B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83EB-72A5-4C4A-BAF9-85B968370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5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63EB-B3EB-40D4-94E0-C82DADC0D0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9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0667-CEF8-4BC0-AF78-0387C9DC82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D376-4CE6-4F63-B9EE-E8D791994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0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FC3A-0A89-4D23-92B0-FA7D8AD65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hottopic.com/hottopic/Apparel/Dresses/Pale+Pink+Mesh+Tube+Dress-718600.jsp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Candara"/>
              </a:rPr>
              <a:t>La Ropa de Colleen y Cara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ndara"/>
              </a:rPr>
              <a:t>Por: Colleen y Car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8088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Ropa Elegan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1127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Pale Pink Mesh Tube Dress Sku 718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286000"/>
            <a:ext cx="3033720" cy="4572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5965920" y="0"/>
            <a:ext cx="3178080" cy="4876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429000" y="17524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5257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ell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raj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is y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orba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a y gris. El lleva en el oto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40384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Brigida lleva un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vestido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rosado f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s Trajes de Bano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4191120" cy="41907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6324480" y="3124080"/>
            <a:ext cx="2629080" cy="3500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85800" y="53053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n el verano, Carlos lleva un traje de b</a:t>
            </a:r>
            <a:r>
              <a:rPr b="1" lang="es-ES" sz="2400" spc="-1" strike="noStrike">
                <a:solidFill>
                  <a:srgbClr val="ffffff"/>
                </a:solidFill>
                <a:latin typeface="Candara"/>
              </a:rPr>
              <a:t>año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rojo 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gafas de sol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neg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48520" y="83808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el verano, Cloe lleva un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raje de ban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ris, negro y ros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Los Pijama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4" name="" descr="Hoodie-Footie Blue Pajamas for Infants"/>
          <p:cNvPicPr/>
          <p:nvPr/>
        </p:nvPicPr>
        <p:blipFill>
          <a:blip r:embed="rId2"/>
          <a:stretch/>
        </p:blipFill>
        <p:spPr>
          <a:xfrm>
            <a:off x="6103800" y="2286000"/>
            <a:ext cx="3040200" cy="43434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152280" y="76320"/>
            <a:ext cx="2824200" cy="4114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124080" y="304812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En el invierno, Diego lleva las pijamas de p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449568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En el otono, Jorge lleva l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ndara"/>
              </a:rPr>
              <a:t>pijamas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 azules y l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ndara"/>
              </a:rPr>
              <a:t>zapatillas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 blan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os Zapato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08160" cy="4343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5867280" y="1981080"/>
            <a:ext cx="3152880" cy="47246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4575240"/>
            <a:ext cx="32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El muchacho es Hermes. Hermes llev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los blue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jeans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una camisa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 blanca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una chaqueta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 negro, 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los tenis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 blanco y neg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2057400"/>
            <a:ext cx="2438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La muchacho es Almira. Almira lleva l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cinta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 azul, una camisa gris y azul, y pantalones azul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524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Los Gorr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" descr="Green Fur Wolf Hat"/>
          <p:cNvPicPr/>
          <p:nvPr/>
        </p:nvPicPr>
        <p:blipFill>
          <a:blip r:embed="rId1"/>
          <a:stretch/>
        </p:blipFill>
        <p:spPr>
          <a:xfrm>
            <a:off x="6248520" y="2666880"/>
            <a:ext cx="2638440" cy="3976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Black Viking Fur Hat"/>
          <p:cNvPicPr/>
          <p:nvPr/>
        </p:nvPicPr>
        <p:blipFill>
          <a:blip r:embed="rId2"/>
          <a:stretch/>
        </p:blipFill>
        <p:spPr>
          <a:xfrm>
            <a:off x="355680" y="228600"/>
            <a:ext cx="2781360" cy="41911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76520" y="4648320"/>
            <a:ext cx="373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El muchacho es Alphonso. En el invierno, Alphonzo lleva un gorro de tor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1447920"/>
            <a:ext cx="2819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La muchacha es Gabriela. En el invierno, Ella lleva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ndara"/>
              </a:rPr>
              <a:t>gorro</a:t>
            </a: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 de perro ver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ndara"/>
              </a:rPr>
              <a:t>La Ropa Casu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3733920" cy="28749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5715000" y="3181320"/>
            <a:ext cx="3295800" cy="36766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114800" y="114300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El muchacho es Aaron. Aaron lleva una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sudadera</a:t>
            </a: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 gris, azul, y blanca, una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camisilla</a:t>
            </a: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 blanca, y un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collar</a:t>
            </a: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4419720"/>
            <a:ext cx="312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La muchacha es Ana. En el verano, Ana lleva los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pantalones cortos</a:t>
            </a: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 y una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blusa</a:t>
            </a: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 blanca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sin tira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La Ropa Interi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3048120" cy="4267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1447920" y="4952880"/>
            <a:ext cx="2847960" cy="1609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4343400" y="1522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952880" y="510552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Vosotros sois Pablo y Encarnita. En el verano, Encarnita llev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andara"/>
              </a:rPr>
              <a:t>la ropa interior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 negro en el verano. Pablo lleva la ropa interior negro y ver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59:09Z</dcterms:created>
  <dc:creator>reardoncol</dc:creator>
  <dc:description/>
  <dc:language>en-US</dc:language>
  <cp:lastModifiedBy>reardoncol</cp:lastModifiedBy>
  <dcterms:modified xsi:type="dcterms:W3CDTF">2011-12-16T15:03:00Z</dcterms:modified>
  <cp:revision>21</cp:revision>
  <dc:subject/>
  <dc:title>Slide 1</dc:title>
</cp:coreProperties>
</file>